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792-E150-4581-BB8D-E5B73D76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E4D-8122-4246-B913-B0800C6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AC0-EA3C-4F6E-9695-2D480E70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382-D911-4F51-98E6-E05703E7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5903-B70B-4844-984A-458E4FBC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CF37-4E8C-4C81-9A59-4668017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AB48-2B77-4DED-BEC3-4AA070BB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75B-873D-4F01-B748-F6C6F417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9C7-9E72-4F79-A32E-DA1E32B1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294F-1102-49BB-B3B1-73CFC03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E02-66BE-414E-8DE4-847B25A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B8-F735-44E6-8DFC-215556A5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58D7-274E-4E60-8E29-F9DC89D3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0A12-2C4D-4DF2-94AC-0E62916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E8E-EF11-4AAC-984C-C06BCF41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090-71A9-4B6D-A2FB-083CCE5A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AFB9-04B9-4597-BDC3-D60068C9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2309-057E-470F-82B5-AAFD0617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026F-B876-4670-AD1C-CEFBFFB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817C-6DB2-459C-94DB-9E02992F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52E0-B043-4C5A-94BA-FD119EC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49D0-A6D5-4F82-8871-242BE60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92F-8766-4837-B41A-7F4D074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BEBA-51D2-448B-AF45-2A621C2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5670-418B-40DA-9420-31F90C8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D862-1A74-4973-B544-5CEDA49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3A3B-140F-4834-B1A0-B202E72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DE92-1E42-49C4-BF3A-E1D04EA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AEB5-F180-4819-93FE-9F44BCAF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484B-5F7A-4ACD-A7EF-7679CA8A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C68C-5F37-4AAE-B841-9E977D6B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8A8D-51F1-418B-A8AF-054F3BF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2BB9-6614-41CE-B0F6-CF4E8A6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F3A-08A9-4ED4-B049-2A3FC31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3FBC-6166-4D00-AFF6-E2E272CA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FBFF-004A-4F27-98CC-3D67310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1241-34B7-4429-8ED0-0E98D78A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3766-C1DB-41E0-AD68-A505DBD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8B56-56AD-4FCA-924C-A5E41F8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BD70-AA50-4A89-99AA-57BFAAA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8FD2-9080-4EE0-BFDB-4E66FBED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480C-6A47-4724-BCF0-D15B03EF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4063-1259-456E-B05A-68894253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98AC-7A1D-4114-AE5B-C4808678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B43-1572-4D10-A7C2-A4094B4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1E12-E6D3-4105-8D1C-0FFD514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52F4-F82B-4D55-8AC7-A351B981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764D-A0F4-4C9B-B19E-F44D9752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9B05-DEC0-413B-81B1-E6A7784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B83E-B4E2-42CB-B24F-34D292C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B737-BCD5-4096-BF41-85E6636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59E2-E67D-4B0D-BDC0-05B085A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5AF3C-C08B-4BCA-B548-594AB3B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3BE7-4415-427F-ABBD-06AEF06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80EAC-9A1D-40C3-AFF0-2383B411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C25-744E-4D1E-98B9-5DAC8DD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F2BD-D09A-46C4-BCD5-7DB94256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E2A8-9987-49F6-9493-957D2C88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BB7F-83B1-4920-A635-B9B2109B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40041-C903-4FB1-AEFF-69A76FB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5435-4A79-4E49-AB15-435B4AB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E75E0-FDFA-471C-B844-5EABC5A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C41A-8EFF-486D-B770-3DDB7FF2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A818-84B5-4823-B612-0E83725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7343-9425-40F1-9D5D-7E2FFD8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B911-6AB7-4740-8654-09B2EA7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138-C362-45CA-AE9C-A5B2EC6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286F-9521-4151-BC50-56033C7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2AB5-C2DB-41D5-BBC0-3188FAE4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9C08-77D6-458E-B268-ACFFED68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B7FD-F4D5-4BBE-8CCC-0EB65563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1C33-A3E6-44A1-A3F7-B57D464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1B34-698E-4713-987F-B071F77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46E7-4AA6-43E3-87B0-349501F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361E-48B6-41DD-8A2B-5554DB12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FEB8-D449-4A63-B43F-F54496A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27C98-2023-47EE-8946-1E489D8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24C-F123-4CFC-9D86-ADAC5B2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F68C-0EB2-46F7-9B6E-AB79364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6148-11C2-4C84-9E81-C2A25B6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7BB0-289B-44F9-AD8B-582648E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0D22-33C0-4A87-B891-B2A07886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50FA7-7538-46EC-A985-E8B5D65B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C2D-8559-45A1-A5F6-9348384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04A-3BFA-4755-982E-D5B9498FF48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2AF-5AF9-48B6-90DF-A9BDF887C27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D5E2-8A28-4334-AFA1-96DECFC02C4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DA7-B516-4255-A00B-F96866BBCD6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D32-0FAD-44D3-A843-86793272C76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507-9BF2-48C2-A716-54DFF8B1EA9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7BF-8C7B-4E6E-8A5F-A04C73F408E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567160" y="2041560"/>
            <a:ext cx="6656040" cy="2189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500120" y="4500720"/>
            <a:ext cx="7500960" cy="20001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жевская Альбина Ильинична,      учитель русского языка и литературы ВКК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г.Иркутск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TextBox 3" descr=""/>
          <p:cNvPicPr/>
          <p:nvPr/>
        </p:nvPicPr>
        <p:blipFill>
          <a:blip r:embed="rId2"/>
          <a:stretch/>
        </p:blipFill>
        <p:spPr>
          <a:xfrm>
            <a:off x="-96840" y="158760"/>
            <a:ext cx="2571840" cy="21337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2286000" y="14292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Иркутс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 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9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Письма читателей&quot; - карточка пользователя Koel в Яндекс.Колл"/>
          <p:cNvPicPr/>
          <p:nvPr/>
        </p:nvPicPr>
        <p:blipFill>
          <a:blip r:embed="rId1"/>
          <a:stretch/>
        </p:blipFill>
        <p:spPr>
          <a:xfrm>
            <a:off x="5256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9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чтение…</a:t>
            </a:r>
            <a:br>
              <a:rPr sz="36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был потрясен, как ждал субботы:                 первое любовное письмо за всю жизнь! В субботу он сходил к парикмахеру, купил новые (сиреневые) перчатки, новый (серый с красной искрой, под цвет костюму) галстук; дома, наряжаясь перед зеркалом, без конца перевязывал этот галстук своими длинными, тонкими пальцами, холодными и дрожащими; на щеках его, под тонкой кожей, разлился красивый, пятнистый румянец, прекрасные глаза потемнели... Потом, наряженный, он сел в кресло, - как гость, как чужой в своей собственной квартире, - и стал ждать рокового ча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06320" y="6426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2000"/>
          </a:bodyPr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ая остановк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РОКОВОГО часа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тите внимание на цвета. Какой оттенок превалирует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робуйте передать чувства героя через определения  или букет цветов, или цветовую палитру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бы вы себя чувствовали в подобной ситуаци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ового узнали о герое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чего ожидает от свидания горбун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Письма читателей&quot; - карточка пользователя Koel в Яндекс.Кол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9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чтение…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 в столовой важно, грозно пробило шесть с половиной. Он содрогнулся, поднялся, все-таки сдержанно, не спеша надел в прихожей весеннюю шляпу, взял трость и медленно вышел. Но на улице уже не мог владеть собой - зашагал своими длинными и тонкими ногами быстрее, со всей вызывающей важностью, присущей горбу, но объятый тем блаженным страхом, с которым всегда предвкушаем мы счастье. Когда же быстро вошел в сквер возле собора, вдруг…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06320" y="571320"/>
            <a:ext cx="8151840" cy="17571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2000"/>
          </a:bodyPr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остановк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будет ли то самое счастье?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, по каким словам мы понимаем, что счастья не будет?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думаете, почему же оцепенел? Ваши мысли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.П.Чехов сказал в одном из своих рассказов: «Ох, уж это вдруг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ите, что могло произойти дальше. Мнение обоснуйт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https://avatars.mds.yandex.net/get-pdb/1209663/de49fcea-04e7-4883-88bc-97cae7575152/orig"/>
          <p:cNvPicPr/>
          <p:nvPr/>
        </p:nvPicPr>
        <p:blipFill>
          <a:blip r:embed="rId1"/>
          <a:stretch/>
        </p:blipFill>
        <p:spPr>
          <a:xfrm>
            <a:off x="0" y="-214200"/>
            <a:ext cx="9190080" cy="707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 rot="21404400">
            <a:off x="361800" y="4213080"/>
            <a:ext cx="8562960" cy="236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onsolas"/>
              </a:rPr>
              <a:t>… </a:t>
            </a:r>
            <a:r>
              <a:rPr b="0" lang="ru-RU" sz="2700" spc="-1" strike="noStrike">
                <a:solidFill>
                  <a:srgbClr val="ff0000"/>
                </a:solidFill>
                <a:latin typeface="Consolas"/>
              </a:rPr>
              <a:t>оцепенел на месте: навстречу ему, в розовом свете весенней зари, важными и длинными шагами шла в сером костюме и хорошенькой шляпке, похожей на мужскую, с зонтиком в левой руке и с фиалками в правой, </a:t>
            </a:r>
            <a:endParaRPr b="0" lang="en-US" sz="27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3643200" y="4357800"/>
            <a:ext cx="2571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19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Documents and Settings\user\Рабочий стол\открытые уроки\httpwww.flowersweb.infoforumforum9topic69307messages.jp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2143080" y="1643040"/>
            <a:ext cx="48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ffe39d"/>
                </a:solidFill>
                <a:latin typeface="Corbel"/>
              </a:rPr>
              <a:t>- горбунья</a:t>
            </a:r>
            <a:r>
              <a:rPr b="0" lang="ru-RU" sz="6000" spc="-1" strike="noStrike">
                <a:solidFill>
                  <a:srgbClr val="ffe39d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0" y="3071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rbel"/>
              </a:rPr>
              <a:t>Беспощаден кто-то к человек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https://avatars.mds.yandex.net/get-pdb/1357752/27ca73e4-4fce-4cb2-a29c-08aef440ea29/orig"/>
          <p:cNvPicPr/>
          <p:nvPr/>
        </p:nvPicPr>
        <p:blipFill>
          <a:blip r:embed="rId2"/>
          <a:stretch/>
        </p:blipFill>
        <p:spPr>
          <a:xfrm>
            <a:off x="0" y="-39600"/>
            <a:ext cx="216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mph" presetID="19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6435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- Ожидали ли вы такого поворота событий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 - Что произойдёт после этого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 - Что означают последние слова «беспощаден кто-то к человеку»?</a:t>
            </a:r>
            <a:br>
              <a:rPr sz="4400"/>
            </a:br>
            <a:br>
              <a:rPr sz="4400"/>
            </a:br>
            <a:br>
              <a:rPr sz="34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705960" y="2071800"/>
            <a:ext cx="7866360" cy="257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000"/>
          </a:bodyPr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А был ли роман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исутствует ли любовь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к кто же беспощаден к человеку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делаем выводы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1000"/>
          </a:bodyPr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1.Тема (одно существительное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Описание темы (два прилагательных или причастия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Характеристика темы (три глагола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4.Отношение к теме (фраза из четырех слов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5.Синоним, обобщающий или расширяющий смысл темы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705960" y="285480"/>
            <a:ext cx="8156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Синквейн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1000"/>
          </a:bodyPr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ихотворная форма из семи строк, первая и последняя из которых — понятия с противоположным значением. Этот вид стиха составляется по следующей схеме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1: тема (существительное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2: определение (2 прилага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3: действие (3 причастия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4: ассоциации (4 существи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5: действие (3 причастия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6: определение (2 прилага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7: тема (существительно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Диамант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57160" y="21420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9000"/>
          </a:bodyPr>
          <a:p>
            <a:pPr marL="2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2628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оделиться опытом работы с коллегам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99680" y="235728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учиться анализировать информацию, отвергать ненужную,  формулировать вопросы и находить на них ответы;</a:t>
            </a: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научиться понимать своеобразие авторской позици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- уметь выделять значимые детали в тексте и использовать их для характеристики героев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- учиться создавать собственные тексты.</a:t>
            </a:r>
            <a:br>
              <a:rPr sz="2800"/>
            </a:b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 </a:t>
            </a:r>
            <a:br>
              <a:rPr sz="3400"/>
            </a:b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706320" y="1143000"/>
            <a:ext cx="8151840" cy="11858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3000"/>
          </a:bodyPr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их в виде хайку написать несколько труднее, потому что в нем выражается личное переживание человека. Вместе с тем эта стихотворная форма также имеет определённые плюсы. В хайку самым гармоничным образом сочетается работа с понятием и эмоциональное отношение к нему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1: «Я видел» кого-то или что-то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2: Какого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3: Как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Снегир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Я видел птицу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илетевшую зимой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расиво…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705960" y="213840"/>
            <a:ext cx="8156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Что такое хайку?</a:t>
            </a:r>
            <a:br>
              <a:rPr sz="20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715176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3000"/>
          </a:bodyPr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пишутся по следующим правилам: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-я строка. 1 существительно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-я строка. 2 прилагательн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3-я строка. 3 причаст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4-я строка. 4 глагол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-я строка. 5 наречий (или деепричастий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-я строка. Сложносочинённое или сложноподчинённое предложение по тем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Штрихи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Picture 2" descr="http://lusana.ru/files/2537/573/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http://fs00.infourok.ru/images/doc/309/309094/img5.jpg"/>
          <p:cNvPicPr/>
          <p:nvPr/>
        </p:nvPicPr>
        <p:blipFill>
          <a:blip r:embed="rId2"/>
          <a:stretch/>
        </p:blipFill>
        <p:spPr>
          <a:xfrm rot="21183000">
            <a:off x="122400" y="4610160"/>
            <a:ext cx="2468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1eeff"/>
                </a:solidFill>
                <a:latin typeface="Consolas"/>
              </a:rPr>
              <a:t>Рефлексия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285920" y="2155680"/>
            <a:ext cx="692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хочу сказать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 мне было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умаю, что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rjevskaya\Desktop\52b3ae6523f9e27e4fadd847e01ec66c.jpg"/>
          <p:cNvPicPr/>
          <p:nvPr/>
        </p:nvPicPr>
        <p:blipFill>
          <a:blip r:embed="rId1"/>
          <a:stretch/>
        </p:blipFill>
        <p:spPr>
          <a:xfrm>
            <a:off x="139680" y="142920"/>
            <a:ext cx="9004320" cy="67150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4"/>
          <p:cNvSpPr/>
          <p:nvPr/>
        </p:nvSpPr>
        <p:spPr>
          <a:xfrm>
            <a:off x="2714760" y="1365120"/>
            <a:ext cx="61434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бездонном небе легким белым кр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стает, сияет облако. Да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лежу за ним…  Мы мало видим , зн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 счастье только знающим дано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.А. Бу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785808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5960" y="1500120"/>
            <a:ext cx="8223480" cy="828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59000"/>
          </a:bodyPr>
          <a:p>
            <a:pPr marL="3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БЛАГОДАРЮ ЗА  СОТРУДНИЧЕСТВО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501040" cy="743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83000"/>
          </a:bodyPr>
          <a:p>
            <a:pPr marL="4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Используемые приёмы: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571320" y="2428920"/>
            <a:ext cx="81435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- чтение с остановками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обращение к личному  опыту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прогнозирование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синквейн, диамант, хайку, штрихи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ромашка Блума.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8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71680" y="214200"/>
            <a:ext cx="8215200" cy="743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rbel"/>
              </a:rPr>
              <a:t>И.А. Бунин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6" descr="bunin103"/>
          <p:cNvPicPr/>
          <p:nvPr/>
        </p:nvPicPr>
        <p:blipFill>
          <a:blip r:embed="rId1"/>
          <a:stretch/>
        </p:blipFill>
        <p:spPr>
          <a:xfrm>
            <a:off x="785880" y="1546200"/>
            <a:ext cx="2662200" cy="3525840"/>
          </a:xfrm>
          <a:prstGeom prst="rect">
            <a:avLst/>
          </a:prstGeom>
          <a:ln w="0">
            <a:noFill/>
          </a:ln>
        </p:spPr>
      </p:pic>
      <p:sp>
        <p:nvSpPr>
          <p:cNvPr id="378" name="Текст 2"/>
          <p:cNvSpPr/>
          <p:nvPr/>
        </p:nvSpPr>
        <p:spPr>
          <a:xfrm>
            <a:off x="3571920" y="714240"/>
            <a:ext cx="535788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рождения: 10 (22) октября 18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рождения: Воронеж, Российская имп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смерти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ноября 1953 (83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смерти: Париж,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ии: Пушкинская пре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степени за перевод «Песни о Гайавате» Лонгфел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белевская премия по литературе (1933) "за строгое мастерство, с которым он развивает традиции русской классическо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зы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Прогнозирование по названию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642960" y="2142720"/>
            <a:ext cx="82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- Рассказ называется «Роман горбуна». Как вы думаете, о чём это произведение?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rjevskaya\Desktop\52b3ae6523f9e27e4fadd847e01ec66c.jpg"/>
          <p:cNvPicPr/>
          <p:nvPr/>
        </p:nvPicPr>
        <p:blipFill>
          <a:blip r:embed="rId1"/>
          <a:stretch/>
        </p:blipFill>
        <p:spPr>
          <a:xfrm>
            <a:off x="139680" y="142920"/>
            <a:ext cx="9004320" cy="67150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2500200" y="1079280"/>
            <a:ext cx="6357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О счастье мы всегда лишь вспомин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 счастье всюду. Может быть, о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т этот сад осенний за сар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 чистый воздух, льющийся в окн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.А. Бу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85480" y="1571760"/>
            <a:ext cx="7786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ыли ли в вашей жизни моменты, когда вами владело предчувствие чего-то прекрасного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спомните, какие чувства вы испытывали в ожидании счасть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 можно ли испытывать страх? Если да, то какой он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учалось ли вам обманываться в своих надеждах и ожиданиях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так происходит? Кто или что вершит судьбами людей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714240" y="28584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Стадия вызо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https://avatars.mds.yandex.net/get-pdb/1572252/eb2742fc-0296-47e0-8c1b-2aa902a81a7f/s1200"/>
          <p:cNvPicPr/>
          <p:nvPr/>
        </p:nvPicPr>
        <p:blipFill>
          <a:blip r:embed="rId1"/>
          <a:stretch/>
        </p:blipFill>
        <p:spPr>
          <a:xfrm>
            <a:off x="6757920" y="0"/>
            <a:ext cx="238608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https://cdn.pixabay.com/photo/2017/08/08/09/05/flowers-2610772_960_720.png"/>
          <p:cNvPicPr/>
          <p:nvPr/>
        </p:nvPicPr>
        <p:blipFill>
          <a:blip r:embed="rId2"/>
          <a:stretch/>
        </p:blipFill>
        <p:spPr>
          <a:xfrm>
            <a:off x="6438960" y="4524480"/>
            <a:ext cx="2705040" cy="23335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Горбун получил анонимное любовное письмо, приглашение на свидание: 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     - Будьте в субботу пятого апреля в семь часов вечера, в сквере на Соборной площади. Я молода, богата, свободна и - к чему скрывать! - давно знаю, давно люблю вас, ваш гордый и печальный взор, ваш благородный, умный лоб, ваше одиночество... Я хочу надеяться, что и Вы найдете, быть может, во мне душу, родную Вам... Мои приметы: серый английский костюм, в левой руке шелковый лиловый зонтик, в правой - букетик фиалок</a:t>
            </a:r>
            <a:r>
              <a:rPr b="0" lang="ru-RU" sz="2800" spc="-1" strike="noStrike">
                <a:solidFill>
                  <a:srgbClr val="835e01"/>
                </a:solidFill>
                <a:latin typeface="Consolas"/>
              </a:rPr>
              <a:t>... 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1285920" y="2858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РОМАН ГОРБ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7" descr="Письма читателей&quot; - карточка пользователя Koel в Яндекс.Колл"/>
          <p:cNvPicPr/>
          <p:nvPr/>
        </p:nvPicPr>
        <p:blipFill>
          <a:blip r:embed="rId3"/>
          <a:stretch/>
        </p:blipFill>
        <p:spPr>
          <a:xfrm rot="20649600">
            <a:off x="372960" y="233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56800" y="285480"/>
            <a:ext cx="5397480" cy="8571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88000"/>
          </a:bodyPr>
          <a:p>
            <a:pPr marL="4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Первая остановка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571320" y="857160"/>
            <a:ext cx="80722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Какой вопрос у вас возникает?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Что мы можем предположить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Как вы думаете, кто написал письмо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Автор письма пишет: «…Вы найдёте, быть может, во мне душу, родную Вам…» -В чём может обнаружиться родство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Предположите, как отреагирует горбун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Picture 2" descr="C:\Documents and Settings\Olga\Мои документы\Animated\Анимация\знак вопроса.gif"/>
          <p:cNvPicPr/>
          <p:nvPr/>
        </p:nvPicPr>
        <p:blipFill>
          <a:blip r:embed="rId1"/>
          <a:stretch/>
        </p:blipFill>
        <p:spPr>
          <a:xfrm>
            <a:off x="8143920" y="2142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8:08:47Z</dcterms:created>
  <dc:creator>Olga</dc:creator>
  <dc:description/>
  <dc:language>en-US</dc:language>
  <cp:lastModifiedBy>Ржевская А.И</cp:lastModifiedBy>
  <dcterms:modified xsi:type="dcterms:W3CDTF">2021-10-29T01:38:31Z</dcterms:modified>
  <cp:revision>83</cp:revision>
  <dc:subject/>
  <dc:title>Урок литературы в 11 классе И.А.Бунин «Роман горбуна»</dc:title>
</cp:coreProperties>
</file>